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351-62FE-4FE5-AF70-EAAC06C8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C96-8E86-4DF1-9EE9-7EF0EC5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FDA-695C-45A1-B240-65DFFE28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3F0-A547-45B1-8F7B-2ABABA6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913-2D2E-4411-90FB-4953C3E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693-8A25-4108-8A02-BC0455A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DC4-95CD-44C8-BB29-9D0A3F8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BC8-4F03-47A6-A0A6-2DEA0F54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60F-56B4-4566-8349-8D7CFAF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68E-EF0C-4D9B-9873-A7FB445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784-1C20-4B3A-8B56-0EFD6E0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642-B2F3-4789-A7B9-99F8E585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04E-E89F-4542-9599-B86BFFD05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2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3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 14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15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rc 16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7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2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rc 2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2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7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8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9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akusticheskaya-ballada-44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023 L -0.05902 0.00023 E">
                                      <p:cBhvr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552 -2.42775E-006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1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1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2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23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2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3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3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35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4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4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4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4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53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5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5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65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67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6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7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0316 0.08403 E">
                                      <p:cBhvr>
                                        <p:cTn id="17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3542 0.1051 E">
                                      <p:cBhvr>
                                        <p:cTn id="17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-0.02344 0.09445 E">
                                      <p:cBhvr>
                                        <p:cTn id="181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3541 0.1051 E">
                                      <p:cBhvr>
                                        <p:cTn id="18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2340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2700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219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5580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9.57004E-007 L 0.10625 0.00023 E">
                                      <p:cBhvr>
                                        <p:cTn id="2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1743E-006 L 0.11025 -2.11743E-006 E">
                                      <p:cBhvr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11743E-006 L 0.11024 -2.11743E-006 E"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0.11024 0.00046 E">
                                      <p:cBhvr>
                                        <p:cTn id="2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9.57004E-007 L -0.00382 -0.06264 E">
                                      <p:cBhvr>
                                        <p:cTn id="3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11743E-006 L 0.00017 -0.06287 E"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57004E-007 L -0.00382 -0.06264 E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11743E-006 L 0.00017 -0.06287 E">
                                      <p:cBhvr>
                                        <p:cTn id="3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284328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3132000" y="2852640"/>
            <a:ext cx="21600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72436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6012000" y="2852640"/>
            <a:ext cx="21564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51826E-006 L 0.00017 0.16759 E">
                                      <p:cBhvr>
                                        <p:cTn id="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869E-006 L 0.00399 0.16782 E">
                                      <p:cBhvr>
                                        <p:cTn id="4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1826E-006 L -3.88889E-006 0.16759 E">
                                      <p:cBhvr>
                                        <p:cTn id="4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7869E-006 L 0.00399 0.16782 E">
                                      <p:cBhvr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6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6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7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7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7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8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8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8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93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9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9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9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0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10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0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11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8:35Z</dcterms:created>
  <dc:creator>Математика</dc:creator>
  <dc:description/>
  <dc:language>en-US</dc:language>
  <cp:lastModifiedBy>школа</cp:lastModifiedBy>
  <dcterms:modified xsi:type="dcterms:W3CDTF">2020-12-14T08:28:07Z</dcterms:modified>
  <cp:revision>4</cp:revision>
  <dc:subject/>
  <dc:title>Слайд 1</dc:title>
</cp:coreProperties>
</file>